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A247-A841-4F65-8583-808D220B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3D4-0F70-4FD2-9A5E-8858FB4A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E089-83AD-4DE5-8E46-3F0E72D6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175-7026-40FD-B039-366247FF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956-75A1-4E71-ABF0-B30323A3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1C2-E4EE-4A9E-BEC5-F9F97B01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996-A835-4F06-A1F2-81D34A27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75E-7202-4246-98B6-FE40A2A7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2A0-A05B-467E-A2A7-2922D7BC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BB6-2416-43C2-912A-51144F15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D9F4-7FE8-44FF-A066-B645E7F4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3A30-4DE6-4A29-8C4B-187B0D46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21A7-3EA3-4B72-9AEA-16066F115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000000"/>
                </a:solidFill>
                <a:latin typeface="Times New Roman"/>
              </a:rPr>
              <a:t>Analyse de Sensibilité Globale basée sur l'Entropi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EA Cadar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Times New Roman"/>
              </a:rPr>
              <a:t>Benjamin Auder &amp; 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Times New Roman"/>
              </a:rPr>
              <a:t>ENSIMAG 2</a:t>
            </a:r>
            <a:r>
              <a:rPr b="0" lang="fr-FR" sz="2400" spc="-1" strike="noStrike" baseline="30000">
                <a:solidFill>
                  <a:srgbClr val="808080"/>
                </a:solidFill>
                <a:latin typeface="Times New Roman"/>
              </a:rPr>
              <a:t>eme</a:t>
            </a:r>
            <a:r>
              <a:rPr b="0" lang="fr-FR" sz="2400" spc="-1" strike="noStrike">
                <a:solidFill>
                  <a:srgbClr val="808080"/>
                </a:solidFill>
                <a:latin typeface="Times New Roman"/>
              </a:rPr>
              <a:t> ann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Perpetua Titling MT"/>
              </a:rPr>
              <a:t>Bornes de l’entr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tropie minima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60093"/>
                </a:solidFill>
                <a:latin typeface="Times New Roman"/>
              </a:rPr>
              <a:t>Entropie maximale pour la distribution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marque: minimale pour une combinaison de pics de Dirac, donc plus géné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191120" y="1905120"/>
            <a:ext cx="373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Perpetua Titling MT"/>
              </a:rPr>
              <a:t>Indices basés sur l’entropi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tropie conditionnelle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H(Y|X)=E[H(Y|x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formation mutuelle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(X,Y)=H(Y)-H(Y|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riété: </a:t>
            </a:r>
            <a:r>
              <a:rPr b="0" lang="fr-FR" sz="2400" spc="-1" strike="noStrike">
                <a:solidFill>
                  <a:srgbClr val="d60093"/>
                </a:solidFill>
                <a:latin typeface="Times New Roman"/>
              </a:rPr>
              <a:t>I(X,Y) &gt;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information mutuelle I(X,Y) indique le degré d’indépendance de Y par rapport à X =&gt; indique la </a:t>
            </a:r>
            <a:r>
              <a:rPr b="0" lang="fr-FR" sz="2400" spc="-1" strike="noStrike">
                <a:solidFill>
                  <a:srgbClr val="d60093"/>
                </a:solidFill>
                <a:latin typeface="Times New Roman"/>
              </a:rPr>
              <a:t>sensibilité de Y à l’entré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finition de l’indice de sensibilit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ŋ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X:Y)=I(X,Y)/H(Y)=1-H(Y|X)/H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Cet indice donne l’influence d’une variable </a:t>
            </a:r>
            <a:r>
              <a:rPr b="1" lang="fr-FR" sz="2200" spc="-1" strike="noStrike">
                <a:solidFill>
                  <a:srgbClr val="d60093"/>
                </a:solidFill>
                <a:latin typeface="Times New Roman"/>
              </a:rPr>
              <a:t>avec toutes ses interactions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, et non juste les interactions de cette variable avec les autres paramèt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Perpetua Titling MT"/>
              </a:rPr>
              <a:t>Comparaisons variance-entr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ans les cas discret et continu: l’entropie évolue logarithmiquement en fonction de la var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60093"/>
                </a:solidFill>
                <a:latin typeface="Times New Roman"/>
              </a:rPr>
              <a:t>=&gt; </a:t>
            </a:r>
            <a:r>
              <a:rPr b="0" lang="fr-FR" sz="2400" spc="-1" strike="noStrike">
                <a:solidFill>
                  <a:srgbClr val="d60093"/>
                </a:solidFill>
                <a:latin typeface="Times New Roman"/>
              </a:rPr>
              <a:t>Les algorithmes de calcul risquent d’être plus lents </a:t>
            </a:r>
            <a:r>
              <a:rPr b="0" lang="fr-FR" sz="24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d60093"/>
                </a:solidFill>
                <a:latin typeface="Times New Roman"/>
              </a:rPr>
              <a:t>que ceux calculant les indices de So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tropie discrétisée et continue pour une variable aléatoire continue: même échelle de grandeur;  </a:t>
            </a:r>
            <a:r>
              <a:rPr b="0" lang="fr-FR" sz="2400" spc="-1" strike="noStrike">
                <a:solidFill>
                  <a:srgbClr val="d60093"/>
                </a:solidFill>
                <a:latin typeface="Times New Roman"/>
              </a:rPr>
              <a:t>donc on s’intéresse exclusivement à l’entropie continue pour les comparai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Times New Roman"/>
              </a:rPr>
              <a:t>Pour la suite, on suppose X V.A. de support [a,b] compa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Perpetua Titling MT"/>
              </a:rPr>
              <a:t>Comparaisons - sui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rfaces iso-variance: 1 paramètre simple sur la densité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60093"/>
                </a:solidFill>
                <a:latin typeface="Times New Roman"/>
              </a:rPr>
              <a:t>Valeur de f au point E[X]: f(E[X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exemples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ouble pic de Dirac en a et b : valeur 0 en la moyen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. distribution uniforme : valeur 1/(b-a) en la moyen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. pic de Dirac (en E[X]) : valeur  +       en la moyen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La variance augmente quand la valeur de la densité f en la moyenne de X diminue.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257800" y="2743200"/>
                <a:ext cx="30492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" name="V1" descr=""/>
          <p:cNvPicPr/>
          <p:nvPr/>
        </p:nvPicPr>
        <p:blipFill>
          <a:blip r:embed="rId1"/>
          <a:stretch/>
        </p:blipFill>
        <p:spPr>
          <a:xfrm>
            <a:off x="152280" y="4038480"/>
            <a:ext cx="2210040" cy="2271960"/>
          </a:xfrm>
          <a:prstGeom prst="rect">
            <a:avLst/>
          </a:prstGeom>
          <a:ln w="0">
            <a:noFill/>
          </a:ln>
        </p:spPr>
      </p:pic>
      <p:pic>
        <p:nvPicPr>
          <p:cNvPr id="80" name="V2" descr=""/>
          <p:cNvPicPr/>
          <p:nvPr/>
        </p:nvPicPr>
        <p:blipFill>
          <a:blip r:embed="rId2"/>
          <a:stretch/>
        </p:blipFill>
        <p:spPr>
          <a:xfrm>
            <a:off x="4648320" y="4038480"/>
            <a:ext cx="213336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V2" descr=""/>
          <p:cNvPicPr/>
          <p:nvPr/>
        </p:nvPicPr>
        <p:blipFill>
          <a:blip r:embed="rId3"/>
          <a:stretch/>
        </p:blipFill>
        <p:spPr>
          <a:xfrm>
            <a:off x="2438280" y="4038480"/>
            <a:ext cx="2133720" cy="2286000"/>
          </a:xfrm>
          <a:prstGeom prst="rect">
            <a:avLst/>
          </a:prstGeom>
          <a:ln w="0">
            <a:noFill/>
          </a:ln>
        </p:spPr>
      </p:pic>
      <p:pic>
        <p:nvPicPr>
          <p:cNvPr id="82" name="V4" descr=""/>
          <p:cNvPicPr/>
          <p:nvPr/>
        </p:nvPicPr>
        <p:blipFill>
          <a:blip r:embed="rId4"/>
          <a:stretch/>
        </p:blipFill>
        <p:spPr>
          <a:xfrm>
            <a:off x="6858000" y="403848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Perpetua Titling MT"/>
              </a:rPr>
              <a:t>Comparaisons - fi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rfaces iso-entropie: 1 paramètre simple sur la densité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60093"/>
                </a:solidFill>
                <a:latin typeface="Times New Roman"/>
              </a:rPr>
              <a:t>écart moyen de f à f</a:t>
            </a:r>
            <a:r>
              <a:rPr b="0" lang="fr-FR" sz="2800" spc="-1" strike="noStrike" baseline="-25000">
                <a:solidFill>
                  <a:srgbClr val="d60093"/>
                </a:solidFill>
                <a:latin typeface="Times New Roman"/>
              </a:rPr>
              <a:t>moy</a:t>
            </a:r>
            <a:r>
              <a:rPr b="0" lang="fr-FR" sz="2800" spc="-1" strike="noStrike">
                <a:solidFill>
                  <a:srgbClr val="d60093"/>
                </a:solidFill>
                <a:latin typeface="Times New Roman"/>
              </a:rPr>
              <a:t> =1/(b-a) (moyenne de 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exemples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istribution uniforme : écart moyen à f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</a:rPr>
              <a:t>moy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nu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. loi triangulaire de support [-1,1]: écart moyen à f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</a:rPr>
              <a:t>moy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=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. combinaison de pics de Dirac : écart moyen à f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</a:rPr>
              <a:t>moy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maxim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L’entropie augmente quand l’écart moyen de f à f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Times New Roman"/>
              </a:rPr>
              <a:t>moy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 diminue.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H" descr=""/>
          <p:cNvPicPr/>
          <p:nvPr/>
        </p:nvPicPr>
        <p:blipFill>
          <a:blip r:embed="rId1"/>
          <a:stretch/>
        </p:blipFill>
        <p:spPr>
          <a:xfrm>
            <a:off x="152280" y="4038480"/>
            <a:ext cx="2895840" cy="2486160"/>
          </a:xfrm>
          <a:prstGeom prst="rect">
            <a:avLst/>
          </a:prstGeom>
          <a:ln w="0">
            <a:noFill/>
          </a:ln>
        </p:spPr>
      </p:pic>
      <p:pic>
        <p:nvPicPr>
          <p:cNvPr id="86" name="V3" descr=""/>
          <p:cNvPicPr/>
          <p:nvPr/>
        </p:nvPicPr>
        <p:blipFill>
          <a:blip r:embed="rId2"/>
          <a:stretch/>
        </p:blipFill>
        <p:spPr>
          <a:xfrm>
            <a:off x="3124080" y="4038480"/>
            <a:ext cx="2895840" cy="2486160"/>
          </a:xfrm>
          <a:prstGeom prst="rect">
            <a:avLst/>
          </a:prstGeom>
          <a:ln w="0">
            <a:noFill/>
          </a:ln>
        </p:spPr>
      </p:pic>
      <p:pic>
        <p:nvPicPr>
          <p:cNvPr id="87" name="V4" descr=""/>
          <p:cNvPicPr/>
          <p:nvPr/>
        </p:nvPicPr>
        <p:blipFill>
          <a:blip r:embed="rId3"/>
          <a:stretch/>
        </p:blipFill>
        <p:spPr>
          <a:xfrm>
            <a:off x="6172200" y="403848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Perpetua Titling MT"/>
              </a:rPr>
              <a:t>Plan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(rappe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I) Mesures d’incert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a) Analyse de sensibilité basée sur la varia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b) Analyse de sensibilité basée sur l’entropi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c) Propriétés de la variance et de l’entropi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II) Algorithmes de calc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a) Fonction connue?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b) Converge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III) Tests et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a) Fonctions d’Ishigami et g de Sobo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b) Entropie et variance complémentaires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Perpetua Titling MT"/>
              </a:rPr>
              <a:t>Calcul des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Version discrétisé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a(Xi:Y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60093"/>
                </a:solidFill>
                <a:latin typeface="Times New Roman"/>
              </a:rPr>
              <a:t>Intégration formelle =&gt; trop coûteu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précision dépendant de la discréti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mulation du modèle par Monte-Carlo =&gt; beaucoup plu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boucle sur S (nombre de points dans les échantillons simulé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ux boucles imbriquées sur n (nombre de sous-intervalles dans la discrétisation des lo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nc </a:t>
            </a:r>
            <a:r>
              <a:rPr b="0" lang="fr-FR" sz="2400" spc="-1" strike="noStrike">
                <a:solidFill>
                  <a:srgbClr val="d60093"/>
                </a:solidFill>
                <a:latin typeface="Times New Roman"/>
              </a:rPr>
              <a:t>linéaire e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140360" y="1700280"/>
                <a:ext cx="28191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Perpetua Titling MT"/>
              </a:rPr>
              <a:t>Convergence avec </a:t>
            </a:r>
            <a:r>
              <a:rPr b="0" lang="fr-FR" sz="5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peut montr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ŋ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Xi:Y)(n)        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n(n)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ŋ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Xi:Y)(n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(Xi,Y)+(H(Xi)+H(Y))/((b-a)(d-c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60093"/>
                </a:solidFill>
                <a:latin typeface="Times New Roman"/>
              </a:rPr>
              <a:t>Complexité en n</a:t>
            </a:r>
            <a:r>
              <a:rPr b="0" lang="fr-FR" sz="2800" spc="-1" strike="noStrike" baseline="30000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fr-FR" sz="2800" spc="-1" strike="noStrike">
                <a:solidFill>
                  <a:srgbClr val="d60093"/>
                </a:solidFill>
                <a:latin typeface="Times New Roman"/>
              </a:rPr>
              <a:t> =&gt; impossible à vérifier en pra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faut donc fixer n à une valeur raisonn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cc"/>
                </a:solidFill>
                <a:latin typeface="Times New Roman"/>
              </a:rPr>
              <a:t>..Mais combien de points faut-il pour avoir une bonne approximation des indices ?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895480" y="2438280"/>
                <a:ext cx="1163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581280" y="2895480"/>
                <a:ext cx="1163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Perpetua Titling MT"/>
              </a:rPr>
              <a:t>Convergence avec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ndices de couples et multi-sorties: définitions analog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n démontre 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faut choisir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S&gt;b n</a:t>
            </a:r>
            <a:r>
              <a:rPr b="1" lang="fr-FR" sz="2800" spc="-1" strike="noStrike" baseline="30000">
                <a:solidFill>
                  <a:srgbClr val="000000"/>
                </a:solidFill>
                <a:latin typeface="Times New Roman"/>
              </a:rPr>
              <a:t>a+d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ur observer une </a:t>
            </a:r>
            <a:r>
              <a:rPr b="0" lang="fr-FR" sz="2800" spc="-1" strike="noStrike">
                <a:solidFill>
                  <a:srgbClr val="d60093"/>
                </a:solidFill>
                <a:latin typeface="Times New Roman"/>
              </a:rPr>
              <a:t>convergence des indice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ù b est dans [0,1], d’autant plus proche de 1 que les distributions sont uniform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=ordre des indices, d= dimension de la sor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Perpetua Titling MT"/>
              </a:rPr>
              <a:t>Bilan sur le calcul des indic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oisir n tel que des boucles à n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a+d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térations soient possibles en temps raisonn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marrer l’algorithme avec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S=b n</a:t>
            </a:r>
            <a:r>
              <a:rPr b="1" lang="fr-FR" sz="2800" spc="-1" strike="noStrike" baseline="30000">
                <a:solidFill>
                  <a:srgbClr val="000000"/>
                </a:solidFill>
                <a:latin typeface="Times New Roman"/>
              </a:rPr>
              <a:t>a+d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où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b=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                      par exemple,        ét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'entropie discrétisée du k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paramètre d'entré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ugmenter ensuite S jusqu'à avoir une stabilisation nette des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908000" y="3357720"/>
                <a:ext cx="20574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12000" y="3500280"/>
                <a:ext cx="609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Perpetua Titling MT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Y=f(X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nfluences des paramèt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obol, Saltelli: indices basés sur la var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ddleton: entropie mieux adapté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Krzykacz-Hausmann: indices basés sur l’entrop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Perpetua Titling MT"/>
              </a:rPr>
              <a:t>Plan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(rappe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I) Mesures d’incert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a) Analyse de sensibilité basée sur la varia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b) Analyse de sensibilité basée sur l’entropi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c) Propriétés de la variance et de l’entropi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II) Algorithmes de calc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a) Fonction connue?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b) Converge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III) Tests et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a) Fonctions d’Ishigami et g de Sobo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b) Entropie et variance complémentaires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Perpetua Titling MT"/>
              </a:rPr>
              <a:t>Fonctions tes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résultats n=100, S&gt;=500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836280"/>
            <a:ext cx="78469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d60093"/>
                </a:solidFill>
                <a:latin typeface="Times New Roman"/>
              </a:rPr>
              <a:t>Ishigami: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is(x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)=sin(x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)+a sin</a:t>
            </a:r>
            <a:r>
              <a:rPr b="0" lang="fr-FR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)+b x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sin(x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Indices relatifs:                             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même ordre de grandeu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d60093"/>
                </a:solidFill>
                <a:latin typeface="Times New Roman"/>
              </a:rPr>
              <a:t>g de Sobol: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g(x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,..,x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)=                      , a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=3; a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=…=a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Indices relatifs:                                                  (très proch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d60093"/>
                </a:solidFill>
                <a:latin typeface="Times New Roman"/>
              </a:rPr>
              <a:t>Ishigami en dimension 2: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fr-FR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)=(is(x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),is(x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Indices relatif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987640" y="1341360"/>
          <a:ext cx="3168360" cy="1366560"/>
        </p:xfrm>
        <a:graphic>
          <a:graphicData uri="http://schemas.openxmlformats.org/drawingml/2006/table">
            <a:tbl>
              <a:tblPr/>
              <a:tblGrid>
                <a:gridCol w="1057320"/>
                <a:gridCol w="1055520"/>
                <a:gridCol w="1055520"/>
              </a:tblGrid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b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708360" y="2781360"/>
                <a:ext cx="15843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09" name=""/>
          <p:cNvGraphicFramePr/>
          <p:nvPr/>
        </p:nvGraphicFramePr>
        <p:xfrm>
          <a:off x="2987640" y="3645000"/>
          <a:ext cx="3168720" cy="1030320"/>
        </p:xfrm>
        <a:graphic>
          <a:graphicData uri="http://schemas.openxmlformats.org/drawingml/2006/table">
            <a:tbl>
              <a:tblPr/>
              <a:tblGrid>
                <a:gridCol w="1057320"/>
                <a:gridCol w="1055520"/>
                <a:gridCol w="1055880"/>
              </a:tblGrid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b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059280" y="5229360"/>
          <a:ext cx="3384360" cy="1366560"/>
        </p:xfrm>
        <a:graphic>
          <a:graphicData uri="http://schemas.openxmlformats.org/drawingml/2006/table">
            <a:tbl>
              <a:tblPr/>
              <a:tblGrid>
                <a:gridCol w="1693800"/>
                <a:gridCol w="1690560"/>
              </a:tblGrid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ŋ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ulti-so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Perpetua Titling MT"/>
              </a:rPr>
              <a:t>Résultats expérimentau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Indices eta à comparer aux indices </a:t>
            </a:r>
            <a:r>
              <a:rPr b="0" lang="fr-FR" sz="2600" spc="-1" strike="noStrike">
                <a:solidFill>
                  <a:srgbClr val="d60093"/>
                </a:solidFill>
                <a:latin typeface="Times New Roman"/>
              </a:rPr>
              <a:t>totaux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 de Sobol car l’entropie donne l’influence totale d’un paramètre, y compris ses interactions avec les autres varia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Echelle des indices eta très différente de celle des indices d’ordre 1 de Sobol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d60093"/>
                </a:solidFill>
                <a:latin typeface="Times New Roman"/>
              </a:rPr>
              <a:t>Indices eta et totaux de Sobol à peu près égaux, toujours du même ordre de grandeu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000000"/>
                </a:solidFill>
                <a:latin typeface="Times New Roman"/>
              </a:rPr>
              <a:t>Indices eta d’ordre 2 très différents des indices d’ordre 2 de Sobol</a:t>
            </a:r>
            <a:r>
              <a:rPr b="0" lang="fr-FR" sz="26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: ils représentent l’influence globale du coup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Indices multi-sorties : cohérents, n’ont pas d’homologues dans le cas de la varian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Perpetua Titling MT"/>
              </a:rPr>
              <a:t>Résultats - suit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Echantillonnage déterministe possible pour l’entropie =&gt; un seul passage dans l’algorithme suffi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Temps de calcul moyen pour un indice simple en fonction du language, avec n=100 (nombre de sous-inervalles dans la discrétisation)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95280" y="3505320"/>
          <a:ext cx="6096240" cy="30049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bre de points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op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: 4 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++: 40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: 1 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++: 1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u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: 2 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++: 2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Perpetua Titling MT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Caractère logarithmique de l'entropie =&gt; non-uniformité de la répartition des indices </a:t>
            </a:r>
            <a:r>
              <a:rPr b="0" lang="fr-F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ŋ</a:t>
            </a: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 dans [0,1]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L'entropie n'est pas toujours discriminante. La tentative d'unifier variance et entropie semble échouer à cause de la trop grande différence entre ces deux notion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d60093"/>
                </a:solidFill>
                <a:latin typeface="Times New Roman"/>
              </a:rPr>
              <a:t>Indices de Sobol indiquent la part de la variabilité de la sortie expliquée par un paramètre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fr-FR" sz="2500" spc="-1" strike="noStrike">
                <a:solidFill>
                  <a:srgbClr val="d60093"/>
                </a:solidFill>
                <a:latin typeface="Times New Roman"/>
              </a:rPr>
              <a:t>Indices eta indiquent l'information globale sur la sortie apportée par un paramètr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Finalement, les indices </a:t>
            </a:r>
            <a:r>
              <a:rPr b="0" lang="fr-F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ŋ</a:t>
            </a: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 sont aux indices de Sobol ce que l'entropie est à la variance : deux points de vue totalement différents, se complétan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Perpetua Titling MT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I) Mesures d’incert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a) Analyse de sensibilité basée sur la varia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b) Analyse de sensibilité basée sur l’entropi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c) Propriétés de la variance et de l’entropi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II) Algorithmes de calc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a) Fonction connue?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b) Converge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III) Tests et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a) Fonctions d’Ishigami et g de Sobo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b) Entropie et variance complémentaires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Perpetua Titling MT"/>
              </a:rPr>
              <a:t>Vari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ar(X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=Var(E(Y|X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 indique la part de la variabilité de la sortie apportée par 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Qualité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ndices bien répartis dans [0,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ogramme linéaire en le nombre de points dans l’échantil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de discrétisation des intervalles de variation des lois à effect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Défau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on maximalité pour une distribution unifo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d’indices multi-so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discriminante dans certains 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590920" y="1676520"/>
                <a:ext cx="2286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Perpetua Titling MT"/>
              </a:rPr>
              <a:t>Variance non discrimin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914400" y="1752480"/>
            <a:ext cx="922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37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37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lus d’information sur la distribution de dro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ais: </a:t>
            </a:r>
            <a:r>
              <a:rPr b="0" lang="fr-FR" sz="2800" spc="-1" strike="noStrike">
                <a:solidFill>
                  <a:srgbClr val="d60093"/>
                </a:solidFill>
                <a:latin typeface="Times New Roman"/>
              </a:rPr>
              <a:t>même varianc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75948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52880" y="1676520"/>
            <a:ext cx="3886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Perpetua Titling MT"/>
              </a:rPr>
              <a:t>Entr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roduite par Shannon vers 1950 en théorie de l’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fr-FR" sz="2400" spc="-1" strike="noStrike">
                <a:solidFill>
                  <a:srgbClr val="d60093"/>
                </a:solidFill>
                <a:latin typeface="Times New Roman"/>
              </a:rPr>
              <a:t>incertitude sur l’état d’une variable aléatoir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connaissant sa distribution de probabi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ien avec la variabilité: pour une distribution unimodale, l’entropie croît avec la vari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Qualités et défauts inversés par rapport à la variance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Non discriminante dans certains 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H(X)= 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(cas discr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H(X)= 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(cas contin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133720" y="4876920"/>
                <a:ext cx="2133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174760" y="5486400"/>
                <a:ext cx="2051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Perpetua Titling MT"/>
              </a:rPr>
              <a:t>Entropie non discrimin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lus d’information sur la distribution de droite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ais: </a:t>
            </a:r>
            <a:r>
              <a:rPr b="0" lang="fr-FR" sz="2800" spc="-1" strike="noStrike">
                <a:solidFill>
                  <a:srgbClr val="d60093"/>
                </a:solidFill>
                <a:latin typeface="Times New Roman"/>
              </a:rPr>
              <a:t>même entropi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73392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03640" y="1600200"/>
            <a:ext cx="38354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Perpetua Titling MT"/>
              </a:rPr>
              <a:t>Entropie continue vs. discrétis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 V.A. sur [a,b], de densité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[a,b] découpé régulièrement en n sous-interva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60093"/>
                </a:solidFill>
                <a:latin typeface="Times New Roman"/>
              </a:rPr>
              <a:t>Entropie discrétisée de 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fonction de 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X)= -                       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Times New Roman"/>
              </a:rPr>
              <a:t>Lemme: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on montre que si n est assez grand, les entropies discrètes et continues suivent la même échelle de comparais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=&gt; il suffit d’utiliser l’entropie discrète, plus facile à calculer et menant naturellement à des indices de sensibilité dans [0,1]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000" spc="-1" strike="noStrike" baseline="-25000">
                <a:solidFill>
                  <a:srgbClr val="d60093"/>
                </a:solidFill>
                <a:latin typeface="Times New Roman"/>
              </a:rPr>
              <a:t>En revanche le lemme permettra de se contenter d’étudier l’entropie continue dans un cadre théoriq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79640" y="2492280"/>
                <a:ext cx="3744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k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k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443640" y="2781360"/>
                <a:ext cx="23954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457200"/>
            <a:ext cx="7918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Perpetua Titling MT"/>
              </a:rPr>
              <a:t>Bornes de la vari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60093"/>
                </a:solidFill>
                <a:latin typeface="Times New Roman"/>
              </a:rPr>
              <a:t>Variance maxima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ariance minimale = pic de Dir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tade intermédiaire: la distribution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37339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09:18:41Z</dcterms:created>
  <dc:creator>maquette</dc:creator>
  <dc:description/>
  <dc:language>en-US</dc:language>
  <cp:lastModifiedBy>maquette</cp:lastModifiedBy>
  <dcterms:modified xsi:type="dcterms:W3CDTF">2006-08-29T08:02:42Z</dcterms:modified>
  <cp:revision>137</cp:revision>
  <dc:subject/>
  <dc:title>Analyse de Sensibilité Globale basée sur l'Entropie</dc:title>
</cp:coreProperties>
</file>