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281-A359-4B34-9D62-8BC3F186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B18-C228-4A7E-AE49-BD3AAAB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642-AD2E-4A82-863C-2ECADF5D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9E3-F6E7-4FF4-ADF2-0C52E35D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1FC-0F77-4039-9913-46F050A3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9D7-6C0C-4DCB-8BF6-EC87C16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45C-9754-4486-A815-F94AFC2A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AB8-86E1-4897-BE2B-516248BD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1A1-B85A-4E60-8B93-78C0751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8D4-8924-4AFD-B9B8-5EA5B5D6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55D-5E27-42E5-BD8D-52872FF7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9CB-A884-4F73-BDBE-C704922E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9155-1CC4-484F-BA71-99B427B77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ilmage automatique des déplacements du bras-robot canad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560" y="4500720"/>
            <a:ext cx="644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Benjamin Au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imes New Roman"/>
              </a:rPr>
              <a:t>Université de Sherbroo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Interval constrai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4296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Benhamou et al.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val Constraint Solving for Camera Control and Motion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imes New Roman"/>
              </a:rPr>
              <a:t>Idé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Mettre en inéquations les contraintes sur le filmage devant être respectées par une camé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ésoudre ces inéquations par une nouvelle méthode utilisant l’arithmétique des interval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Déplacements de caméra sous forme d’équ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357280" y="3786120"/>
            <a:ext cx="3964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Roadmap probabilis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Nieuwenhuisen et M. H. Overma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tion Planning for Camera Movements in Virtual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Road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graphe de points de l’espace des déplacements d’un robot, dans lequel on trouve son chemin en parcourant les arêtes ; probabiliste si les sommets sont générés aléatoi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éthode 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herche d’un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plan à travers le graphe =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suite de points 3D, modélisa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le chemin de la caméra.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981600" y="2500200"/>
            <a:ext cx="516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Perpetua Titling MT"/>
              </a:rPr>
              <a:t>Bilan des méthodes géométriq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28556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es et efficaces lorsque l’on souhaite filmer certains détails d’une scène statique, mis assez facilement en équations.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exploration d’un musée ou d’un lieu en général, animation de transition entre deux mondes dans un jeu vidéo.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revanche, inutilisables telles quelles dans le cas du filmage d’un objet animé, car il faudrait inclure les déplacements de l’objet dans la description de la scène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beaucoup trop lou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se contentera de s’inspirer de certains aspects de ces méthodes, sans les utili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Structure d’un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3285720"/>
            <a:ext cx="77724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Découpage hiérarchique d’une succession d’images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Film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scène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idiome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shot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im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Plus intéressant de travailler au niveau scène/idiome/shot que image, car plus proche du tournage d’un film au cinéma, et plus d’abstraction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en général plus de simplific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08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 Titling MT"/>
              </a:rPr>
              <a:t>Types de s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400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142560"/>
            <a:ext cx="7774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Le « Camera Planning System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424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. Christianson et al.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ative Camera Control for Automatic Cine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éth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ant donné la trace d’animation, découpage en actions élémentaires = </a:t>
            </a: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scènes et idiom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herche d’un idiome correspondant à chaque action élémentaire dans la base de donné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DCC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idiom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: idiom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conversation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000680" y="3357720"/>
            <a:ext cx="4435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 Titling MT"/>
              </a:rPr>
              <a:t>Système de filmage basé sur la résolution de contraintes cinématographiqu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50012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 Halper et al.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amera Engine for Computer Games : Managing the Trade-Off Between Constraint Satisfaction and Frame 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Résolution de contraintes visuel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image par im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cer la caméra à la bonne hauteur, avec un bon angle de vue, à une certaine distance fixée de l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en sorte que la cible à filmer reste toujours visible à l’écran, sans sauter d’un angle de vue à un au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thode adaptée donc au suivi de personnages dans un jeu vidé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 Titling MT"/>
              </a:rPr>
              <a:t>Ordre d’application des contra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5549760" cy="590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28760" y="1500120"/>
            <a:ext cx="26636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olution de chaque contrainte minimise l’altération de la satisfaction des contraintes précé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lgorithme de N. Halper et al. Schématis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643040"/>
            <a:ext cx="7848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État de l’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Times New Roman"/>
              </a:rPr>
              <a:t>Préliminaires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Calcul des coordonnées du b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Calcul de l’image d’une camé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Découpage de la trajecto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Génération d’animations 3D avec caméras virtue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Perpetua Titling MT"/>
              </a:rPr>
              <a:t>Coordonnées 3D du bras-rob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571320"/>
            <a:ext cx="77724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Utile car : tous les calculs dans les algorithmes devront se baser sur des positions en 3D. 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Version simplifié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oordonnées sphériques du point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dans le repère translaté d’origine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CA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CA" sz="22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. Puis transposition en cartésien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Point B : même méthode avec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CA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CA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. P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uis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hangement de repère pour avoir le vecteur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comme axe Oz, et : rotation d’angle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ξ au point calculé pour prendre en compte le ro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66800" y="1428840"/>
            <a:ext cx="5691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571760"/>
            <a:ext cx="7848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Times New Roman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Mise en situation et motiv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Présentation de la station et du bras-rob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Avancement dans RomanTu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État de l’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liminaires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Génération d’animations 3D avec caméras virtue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77724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Perpetua Titling MT"/>
              </a:rPr>
              <a:t>Vue d’une camé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2789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mp de vision de la camér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approximé par un cô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 degrés de liber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Times New Roman"/>
              </a:rPr>
              <a:t>Méthod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Echantillonner des points sur le bras, puis les relier à la caméra par des segments. On compte ensuite le nombre de segments en collision avec un obstacle à l’aide de PQ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Note : Avec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Coin3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 possibilité d’évaluer la qualité pixel par pix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Qualité de l’image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atio 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nbPointsSansCollision / nbPointsEnColl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réel entre 0 et 1; 0 si un des joints n’est pas visi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714920" y="571680"/>
            <a:ext cx="31431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Découpage de la trajecto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4240" y="1285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On cherche à diviser la trajectoire du bras-robot en morceaux significatifs pour l’apprenant, permettant ainsi d’organiser les changements de caméras sur les points de coupure, et de filmer différemment sur chaque sous-partie de trajectoi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Ces découpages seront utiles à divers endroits de la génération automatique d’anim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550"/>
              </a:spcBef>
              <a:buClr>
                <a:srgbClr val="99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Découpage monot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550"/>
              </a:spcBef>
              <a:buClr>
                <a:srgbClr val="99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Découpage selon proximités aux obsta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550"/>
              </a:spcBef>
              <a:buClr>
                <a:srgbClr val="99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Découpage en fonction des zones de la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2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Découpage « monoton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642960"/>
            <a:ext cx="77724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jectoire subdivisée suivant les mouvements de chaque joint : une portion de trajectoire = tous les joints gardent </a:t>
            </a: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le même sens de déplac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éventuellement immo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 de mouv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not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 non monot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anadarm_Tutor_exemple_monotone.avi" descr=""/>
          <p:cNvPicPr/>
          <p:nvPr/>
        </p:nvPicPr>
        <p:blipFill>
          <a:blip r:embed="rId1"/>
          <a:stretch/>
        </p:blipFill>
        <p:spPr>
          <a:xfrm>
            <a:off x="5072040" y="1928880"/>
            <a:ext cx="2867040" cy="3714840"/>
          </a:xfrm>
          <a:prstGeom prst="rect">
            <a:avLst/>
          </a:prstGeom>
          <a:ln w="0">
            <a:noFill/>
          </a:ln>
        </p:spPr>
      </p:pic>
      <p:pic>
        <p:nvPicPr>
          <p:cNvPr id="99" name="Canadarm_Tutor_exempleNM.avi" descr=""/>
          <p:cNvPicPr/>
          <p:nvPr/>
        </p:nvPicPr>
        <p:blipFill>
          <a:blip r:embed="rId2"/>
          <a:stretch/>
        </p:blipFill>
        <p:spPr>
          <a:xfrm>
            <a:off x="1071720" y="3000240"/>
            <a:ext cx="2977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713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Perpetua Titling MT"/>
              </a:rPr>
              <a:t>Découpage selon les proximités aux obsta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358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Times New Roman"/>
              </a:rPr>
              <a:t>Idé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: portions de trajectoire sur lesquelles le bras est à peu près à la même distance des obstac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Méthode sans PQP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(illus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Echantillonnage gaussien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           autour du bras-rob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alcul de la plus courte distance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     entre un point du bras et un point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         échantillonné en colli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Méthode avec PQP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alculs exacts des distances, calculs géométriques se basant sur des triang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Times New Roman"/>
              </a:rPr>
              <a:t>Comparatif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: au-delà de 20 à 30 points échantillonnés, la méthode avec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PQP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est plus rapide. On l’utilise donc systématiquement, car on aurait besoin de beaucoup plus de poi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929120" y="1571760"/>
            <a:ext cx="3571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Perpetua Titling MT"/>
              </a:rPr>
              <a:t>Découpage en fonction des zones de la st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4240" y="392868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Times New Roman"/>
              </a:rPr>
              <a:t>Idé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: on divise la station en 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zones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ignificatives pour l’utilisateu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Les façons de filmer sont ainsi déterminées en fonction de la zone coura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Non implémenté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car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Difficile de récupérer les coordonnées exactes des objets depuis la scène 3D (format de la librairie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Coin3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214720" y="714240"/>
            <a:ext cx="4093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000080"/>
            <a:ext cx="7848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État de l’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liminaires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Times New Roman"/>
              </a:rPr>
              <a:t>Génération d’animations 3D avec caméras virtue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9900cc"/>
                </a:solidFill>
                <a:latin typeface="Times New Roman"/>
              </a:rPr>
              <a:t>Trajectoire connue : approche idio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Création de la base d’idio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Transformation de la trajectoire en suite d’idio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Evaluation d’un idi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Compilation de la suite d’idiomes en fil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Tests avec RomanTu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Trajectoire conn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928800"/>
            <a:ext cx="77724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cc"/>
                </a:solidFill>
                <a:latin typeface="Times New Roman"/>
              </a:rPr>
              <a:t>Possibilité d’utiliser une approche cinématographi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hots, idiomes : 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éthod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nir la base d’idi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uper la trajectoire, puis choisir les idiomes et shots sur chaque morc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iler la suite d’idiomes en un film cohé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TL-Pla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ifier les déplacements de la caméra en encodant les shots/idiomes comme des actions, et les positions de la caméra comme des é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Non implémenté 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Base d’idiomes (sans TL-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57160" y="785880"/>
            <a:ext cx="7429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Bras s’élevant pour soulever une charge ou en prévision d’un contournement d’obstacle, et mouvement inverse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vertical, donc </a:t>
            </a:r>
            <a:r>
              <a:rPr b="0" lang="fr-CA" sz="2100" spc="-1" strike="noStrike">
                <a:solidFill>
                  <a:srgbClr val="9900cc"/>
                </a:solidFill>
                <a:latin typeface="Times New Roman"/>
              </a:rPr>
              <a:t>pan vertic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latéral de rotation du bras pour amener une charge sur une trajectoire globalement circulai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horizontal : </a:t>
            </a:r>
            <a:r>
              <a:rPr b="0" lang="fr-CA" sz="2100" spc="-1" strike="noStrike">
                <a:solidFill>
                  <a:srgbClr val="9900cc"/>
                </a:solidFill>
                <a:latin typeface="Times New Roman"/>
              </a:rPr>
              <a:t>pan horizont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de rotation du segment épaule-coude sur lui-mêm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circulaire borné : </a:t>
            </a:r>
            <a:r>
              <a:rPr b="0" lang="fr-CA" sz="2100" spc="-1" strike="noStrike">
                <a:solidFill>
                  <a:srgbClr val="9900cc"/>
                </a:solidFill>
                <a:latin typeface="Times New Roman"/>
              </a:rPr>
              <a:t>shot go-b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s du poignet pour agripper une charge ou effectuer une opération de maintenanc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statique : </a:t>
            </a:r>
            <a:r>
              <a:rPr b="0" lang="fr-CA" sz="2100" spc="-1" strike="noStrike">
                <a:solidFill>
                  <a:srgbClr val="9900cc"/>
                </a:solidFill>
                <a:latin typeface="Times New Roman"/>
              </a:rPr>
              <a:t>shot stat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de translation en déplacement le long du rai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100" spc="-1" strike="noStrike">
                <a:solidFill>
                  <a:srgbClr val="000000"/>
                </a:solidFill>
                <a:latin typeface="Times New Roman"/>
              </a:rPr>
              <a:t>mouvement en translation, donc </a:t>
            </a:r>
            <a:r>
              <a:rPr b="0" lang="fr-CA" sz="2100" spc="-1" strike="noStrike">
                <a:solidFill>
                  <a:srgbClr val="9900cc"/>
                </a:solidFill>
                <a:latin typeface="Times New Roman"/>
              </a:rPr>
              <a:t>shot trac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hiérarchie d’angles de vue associée à chaque idio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 Titling MT"/>
              </a:rPr>
              <a:t>Transformation trajectoire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Perpetua Titling MT"/>
              </a:rPr>
              <a:t> idio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14264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upage selon les mouvements monotones du b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cours des intervalles en cherchant à chaque fois la variation majoritaire ; par exemple si l’angl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u joint de l’épaule varie nettement plus que les autres, on enregistre un shot pan horizontal.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iguration initiale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pan vertical   </a:t>
            </a:r>
            <a:r>
              <a:rPr b="0" lang="fr-FR" sz="2400" spc="-1" strike="noStrike">
                <a:solidFill>
                  <a:srgbClr val="9900cc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  pa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les idiomes utilisés sont composés d’un unique shot, pour simplifier. Cela revient au même, c’est juste un niveau d’abstraction en dessous qu’un idiome compos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Evaluation d’un idio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0717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gument 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dio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nom, T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déb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fi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v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 des vues de l’idiome par visibi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catégories d’idiom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Static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 go-by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: on évalue une seule image avec l’unique placement de la camé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Tout le reste sauf track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: 3 images évaluées, début, milieu et fin du mouvement de la camé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Track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: évaluation de n &gt; 3 images choisies au hasard sur le parcours « track » de la camé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vues sont triées suivant la moyenne des évaluation des images, pour l’idiome correspond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000000"/>
                </a:solidFill>
                <a:latin typeface="Perpetua Titling MT"/>
              </a:rPr>
              <a:t>Objectifs et motivation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000080"/>
            <a:ext cx="798984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On veut filmer de la </a:t>
            </a:r>
            <a:r>
              <a:rPr b="0" i="1" lang="fr-CA" sz="2200" spc="-1" strike="noStrike">
                <a:solidFill>
                  <a:srgbClr val="000000"/>
                </a:solidFill>
                <a:latin typeface="Times New Roman"/>
              </a:rPr>
              <a:t>« meilleure façon possible »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fr-CA" sz="2200" spc="-1" strike="noStrike">
                <a:solidFill>
                  <a:srgbClr val="9900cc"/>
                </a:solidFill>
                <a:latin typeface="Times New Roman"/>
              </a:rPr>
              <a:t>trajectoire du bras-robot canadien</a:t>
            </a:r>
            <a:r>
              <a:rPr b="0" lang="fr-CA" sz="22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as + repères doivent rester à l’écr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ect de contraintes visuel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Times New Roman"/>
              </a:rPr>
              <a:t>Critères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Voir le plus de surface possible sur le bras-rob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Ne pas sauter d’une vue à une autre, mouvement lisse de la camé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Prendre des angles de vues informationne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Les manipulations à la surface de l’</a:t>
            </a: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ISS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doivent être effectuées avec la plus grande précision, compte-tenu du coût du matéri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Donc : nécessité de s’entraîner à la manipulation du bras, en dehors ou à l’intérieur de la station, sans risque de fausse manœuv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Compilation idiomes </a:t>
            </a:r>
            <a:r>
              <a:rPr b="0" lang="fr-FR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 fil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4296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n suppose disposer d’une liste d’idiomes avec tous les paramètres initialisés, et les vues trié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Parcours de la liste d’idiom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Assignation d’une vue à chaque camé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alcul des positions de caméras init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alcul des pas élémentaires sur chaque paramèt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Boucl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sur les images de l’idio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onfiguration initiale 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itialisation des paramètres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et de trans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for i:1..nbPas)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pas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9900cc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  pan verti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for i:1..nbPas)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pas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9900cc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  pan horizo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n se retrouve ainsi avec une suite de configurations de caméras, directement interprétable par RomanTutor qui générera le film (à l’aide de la librairie graphique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Coin3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Résult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anadarm_Tutor_idiomes2_1.avi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4081680" cy="5286240"/>
          </a:xfrm>
          <a:prstGeom prst="rect">
            <a:avLst/>
          </a:prstGeom>
          <a:ln w="0">
            <a:noFill/>
          </a:ln>
        </p:spPr>
      </p:pic>
      <p:pic>
        <p:nvPicPr>
          <p:cNvPr id="120" name="Canadarm_Tutor_idiomes2_2.avi" descr=""/>
          <p:cNvPicPr/>
          <p:nvPr/>
        </p:nvPicPr>
        <p:blipFill>
          <a:blip r:embed="rId2"/>
          <a:stretch/>
        </p:blipFill>
        <p:spPr>
          <a:xfrm>
            <a:off x="4643280" y="1071720"/>
            <a:ext cx="4081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28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8483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État de l’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liminaires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Times New Roman"/>
              </a:rPr>
              <a:t>Génération d’animations 3D avec caméras virtue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9900cc"/>
                </a:solidFill>
                <a:latin typeface="Times New Roman"/>
              </a:rPr>
              <a:t>Trajectoire imprévisible : approche contrai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Placement initial de la camé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Ajustement et prise en compte du découpage de la trajecto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57132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Passage à proximité d’un obsta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Trajectoire imprévi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71360"/>
            <a:ext cx="77724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roche basée idiomes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uivi de la trajectoire : placement de la caméra de façon à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arder un </a:t>
            </a:r>
            <a:r>
              <a:rPr b="0" lang="fr-FR" sz="2800" spc="-1" strike="noStrike">
                <a:solidFill>
                  <a:srgbClr val="9900cc"/>
                </a:solidFill>
                <a:latin typeface="Times New Roman"/>
              </a:rPr>
              <a:t>bon angle de v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oir le bras + éventuel(s) point(s) de repère </a:t>
            </a:r>
            <a:r>
              <a:rPr b="0" lang="fr-FR" sz="2800" spc="-1" strike="noStrike">
                <a:solidFill>
                  <a:srgbClr val="9900cc"/>
                </a:solidFill>
                <a:latin typeface="Times New Roman"/>
              </a:rPr>
              <a:t>le moins obstrué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e pas sauter d’un point de vue à un autre : on se concentre sur la </a:t>
            </a:r>
            <a:r>
              <a:rPr b="0" lang="fr-FR" sz="2800" spc="-1" strike="noStrike">
                <a:solidFill>
                  <a:srgbClr val="9900cc"/>
                </a:solidFill>
                <a:latin typeface="Times New Roman"/>
              </a:rPr>
              <a:t>cohérence du film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assouplissant le critère de 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nner un rendu visuel agréable et intéressant pour l’utilisateur (très subjectif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Repérage sur la s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Repère utilisé pour le positionnement des caméra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paule : yaw (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fr-CA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, pitch (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CA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CA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roll (non représen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de : pitch (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fr-CA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918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Hiérarchie des v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00008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Ordre valable sauf lorsque l’on zoome entre le bras et un obstacle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Vue orthogonale au plan du bras, du côté du plus grand angle avec le vecteur « épaule</a:t>
            </a:r>
            <a:r>
              <a:rPr b="0" lang="fr-CA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coude »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Vue en miroir de cette dernière, du côté du plus petit angle cette foi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Vue parallèle à l’axe vertical de la station Oy, du côté où l’on voit le poignet plus proche que le cou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Vue symétrique de la précédente (le poignet plus loin que le coude sur l’axe Oy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Vue ¾ au dessus du bras, du côté du plus petit angle entre le vecteur « épaule</a:t>
            </a:r>
            <a:r>
              <a:rPr b="0" lang="fr-CA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coude » et l’axe O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Vue « aérienne » au dessus du bras (mêmes coordonnées sur x et y, z &gt;&gt; z</a:t>
            </a:r>
            <a:r>
              <a:rPr b="0" lang="fr-CA" sz="2300" spc="-1" strike="noStrike" baseline="-25000">
                <a:solidFill>
                  <a:srgbClr val="000000"/>
                </a:solidFill>
                <a:latin typeface="Times New Roman"/>
              </a:rPr>
              <a:t>bras</a:t>
            </a:r>
            <a:r>
              <a:rPr b="0" lang="fr-CA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 Titling MT"/>
              </a:rPr>
              <a:t>Placement initial d’une caméra (exemp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480" y="1213920"/>
            <a:ext cx="8172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cement a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thogonal au pla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du 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lan P est celui formé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par les trois point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principaux du bras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« épaule, coude, poigne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071960" y="1214280"/>
            <a:ext cx="45622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Suivi du mouvement du b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Déplacement en </a:t>
            </a: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translation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suivant le point de repère courant (centre de gravité, main ou zone proche d’un obstac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visibilite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getNewVisibilite()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Ajustement local pour visibilité de la caméra. Éventuellement changement d’angle, de préférence sur les points de coupure défin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Si la visibilite calculée est correcte, on s’arrête sur cette vue, sinon on relance l‘initialisation qui va chercher le meilleur compromis vue / visibilité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plus on est proche d’un point de coupure, et plu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exige une bonne visibi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 Titling MT"/>
              </a:rPr>
              <a:t>Passage proche d’un obst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785880"/>
            <a:ext cx="77724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Si passage à moins de </a:t>
            </a:r>
            <a:r>
              <a:rPr b="0" i="1" lang="fr-FR" sz="2200" spc="-1" strike="noStrike">
                <a:solidFill>
                  <a:srgbClr val="000000"/>
                </a:solidFill>
                <a:latin typeface="Times New Roman"/>
              </a:rPr>
              <a:t>SEUIL_DIST_OBST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d’un obstacle, on va orienter la caméra vers le milieu du plus court segment joignant le bras et le plus proche obsta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améra placée dans le plan orthogonal au segment joignant bras et obstacle, de façon à minimiser l’angle entre les vecteurs « caméra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entre du segment » et « épaule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entre de gravité » (les rendre le plus parallèles possi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n minimise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MIN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214800" y="3357720"/>
            <a:ext cx="45306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 Titling MT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4260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Trajectoire complexe, temps : 10min48s, 870 im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anadarm_Tutor_contraintes1.avi" descr=""/>
          <p:cNvPicPr/>
          <p:nvPr/>
        </p:nvPicPr>
        <p:blipFill>
          <a:blip r:embed="rId1"/>
          <a:stretch/>
        </p:blipFill>
        <p:spPr>
          <a:xfrm>
            <a:off x="318960" y="1285920"/>
            <a:ext cx="4038840" cy="5232240"/>
          </a:xfrm>
          <a:prstGeom prst="rect">
            <a:avLst/>
          </a:prstGeom>
          <a:ln w="0">
            <a:noFill/>
          </a:ln>
        </p:spPr>
      </p:pic>
      <p:pic>
        <p:nvPicPr>
          <p:cNvPr id="141" name="Canadarm_Tutor_contraintes2.avi" descr=""/>
          <p:cNvPicPr/>
          <p:nvPr/>
        </p:nvPicPr>
        <p:blipFill>
          <a:blip r:embed="rId2"/>
          <a:stretch/>
        </p:blipFill>
        <p:spPr>
          <a:xfrm>
            <a:off x="4676760" y="1285920"/>
            <a:ext cx="40384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Canadarm2 sur l’I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ilm obtenu sur une courte trajectoire contournant un obstacle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anadarm_Tutor_exemple.avi" descr=""/>
          <p:cNvPicPr/>
          <p:nvPr/>
        </p:nvPicPr>
        <p:blipFill>
          <a:blip r:embed="rId1"/>
          <a:stretch/>
        </p:blipFill>
        <p:spPr>
          <a:xfrm>
            <a:off x="2500200" y="1357200"/>
            <a:ext cx="40006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Perpetua Titling MT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000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aison de deux types de filmage radicalement différents : résolution de contraintes au niveau de l’image, et idiomes au niveau des déplacements élémentaires des camé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lmage beaucoup plus rapide dans le cas des idiomes ; mais méthode inapplicable pour filmer les mouvements du bras en di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iculté à concilier bonne visibilité et cohérence du film (ces deux critères s’oppos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Travaux futur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méliorer le compromis visibilité /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ptimiser les algorithmes (plusieurs minutes dans le cas d’un filmage par une approche contraint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des idiomes plus élaborés. …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000000"/>
                </a:solidFill>
                <a:latin typeface="Perpetua Titling MT"/>
              </a:rPr>
              <a:t>Questions ?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Description de canadarm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ras-robot : </a:t>
            </a: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8 degrés de liber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en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à l’épaule : yaw, pitch, 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au coude : p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au poignet : yaw, pitch, 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ngueurs SP-EP et EP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P == 8,5m envi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, SY, SR constituen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base mobile s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çant sur le rai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500800" y="836640"/>
            <a:ext cx="346392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428760" y="3500280"/>
            <a:ext cx="4929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 Titling MT"/>
              </a:rPr>
              <a:t>Filmage actuel dans RomanT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2960" y="78588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iciel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RomanTuto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imulant le contrôle du bras-robot sur la station spatiale internationale (ISS), devant être utilisé à terme par des élèves astrona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daptation de principes cinématographiqu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succession ininterrompue d’images prises par une seule camé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io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succession de shots montrant une action particuliè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au sens utile ici) : suite de configurations de caméras que RomanTutor interprétera pour fournir le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cours : utilisation de </a:t>
            </a: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TL-Pl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planificateur utilisant la logique temporelle, afin de planifier les successions de shots et donc d’idiomes. </a:t>
            </a: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Idiome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et règles cinématographiques encodés sous forme de stratégies de recherche dans TL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Filmage actuel :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4296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Avant ajout du module de filmage dans RomanTutor </a:t>
            </a:r>
            <a:r>
              <a:rPr b="0" lang="fr-FR" sz="2200" spc="-1" strike="noStrike">
                <a:solidFill>
                  <a:srgbClr val="000000"/>
                </a:solidFill>
                <a:latin typeface="Perpetua Titling M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Caméras 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fixes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Un seul type de shot : </a:t>
            </a:r>
            <a:r>
              <a:rPr b="0" lang="fr-FR" sz="2200" spc="-1" strike="noStrike">
                <a:solidFill>
                  <a:srgbClr val="9900cc"/>
                </a:solidFill>
                <a:latin typeface="Times New Roman"/>
              </a:rPr>
              <a:t>stati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L’interface du logiciel RomanTutor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02"/>
          <p:cNvPicPr/>
          <p:nvPr/>
        </p:nvPicPr>
        <p:blipFill>
          <a:blip r:embed="rId1"/>
          <a:stretch/>
        </p:blipFill>
        <p:spPr>
          <a:xfrm>
            <a:off x="857160" y="2571840"/>
            <a:ext cx="6786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Perpetua Titling MT"/>
              </a:rPr>
              <a:t>Architecture des mod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3666960" y="3209760"/>
          <a:ext cx="1810080" cy="4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6960" y="3209760"/>
                    <a:ext cx="181008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1071720" y="642960"/>
            <a:ext cx="70005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84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Times New Roman"/>
              </a:rPr>
              <a:t>État de l’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Méthodes géométr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lnSpc>
                <a:spcPct val="80000"/>
              </a:lnSpc>
              <a:spcBef>
                <a:spcPts val="649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00cc"/>
                </a:solidFill>
                <a:latin typeface="Times New Roman"/>
              </a:rPr>
              <a:t>Résolution de contraintes cinématograph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liminaires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Génération d’animations 3D avec caméras virtue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9:18:41Z</dcterms:created>
  <dc:creator>maquette</dc:creator>
  <dc:description/>
  <dc:language>en-US</dc:language>
  <cp:lastModifiedBy>DarkBen</cp:lastModifiedBy>
  <dcterms:modified xsi:type="dcterms:W3CDTF">2007-12-11T16:18:58Z</dcterms:modified>
  <cp:revision>724</cp:revision>
  <dc:subject/>
  <dc:title>Analyse de Sensibilité Globale basée sur l'Entropie</dc:title>
</cp:coreProperties>
</file>